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F26-24B1-46D2-8F0F-D29DEC98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3EA-C808-416D-B564-DECFC83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D4A-37F6-431E-B349-90302D41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2E4-A915-419A-897B-99E171AF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986-8BC9-4038-9D05-4710C486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673A-003C-4844-BB2B-258CED3A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FD7C-D7A1-477F-804E-CFF10139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4F2-25B1-4F37-A4CD-F0B67F20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F34E-4189-440E-86D6-E5217820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D46-A9F9-425A-9A8F-32F72E48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70C-6185-4A7C-8576-987946C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64E-E9A0-4780-99B7-C3AEC0E8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DE28-BA24-4D10-9CA0-32D577D8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243F-70BB-43C3-BF79-6435E30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FBA7-5FEB-49CB-9731-B2C8EE60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CD5F-9EE1-4A6B-A3AE-33BA81F4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E40-DD73-4603-82DD-46365EC1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A80B4-82DB-4EB7-A5A1-E4B2B9A9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B4807-6125-42E9-8000-F18FF58E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EF985-C43E-4805-8DEF-6C06DEC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DF39A-D0E2-4DCE-A188-9FF22BA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CE24C-FBBB-4C42-86EA-48A19985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8A7-B0F5-4863-96A2-FCA517E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39D33-92AA-4234-ADF3-4AC67D2F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B2298-B38A-43EA-BCC0-B137475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B589F-0739-4CC8-8FDF-01C373E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EA079-894C-4334-B4A4-39E7C9E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9093B-DB61-49BC-A66B-E1695635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9917F-02EA-4C0F-B0F6-DC8B6E0C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4257B-D73E-48DD-AC5E-17A82346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0B41-98A3-48D2-BCCE-8C433761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E01C-8038-45E0-A0B8-0C09D48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5CA6-CF14-4F8E-8B24-3014D7EC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B70-680B-4915-AA5E-4E067DA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B502-BD0D-4C75-B79A-2FAD3E58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29CF7-1430-48F7-A8BE-8452D4D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5E3B-10B5-4CB7-B750-E8EB6F75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CE79-B041-4EEB-A893-8FFD705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29A9-C613-4A24-8128-AD53BA0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171D-31B5-4CA2-BF15-000227A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61F1-1F4B-469C-B08A-16C3D51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0B31-9F57-4ECC-A170-53BCD36B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3430-197A-49F5-B89F-DA08F91C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6D2F1-0E81-4D84-A86F-D92C1248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8FA-26C4-42F9-99F3-A1F05FE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84C7E-C244-4EA4-8536-3E3E0BA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60E75-E42D-461F-88FD-98806D1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6CC0B-7F37-486F-9EA8-E35728D4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CECD3-F461-41CD-8DAA-7913326B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A3FAB-93CF-4D9B-96E9-6CC2A71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DD087-5A7F-469E-B0B1-C0417BC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3B7EB-CF3F-4045-AD1F-DD873A8E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F5BF8-F710-43CB-BF36-83BA1EDE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D1BEA-F0D3-4AAD-B764-2D8A2DEC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236F4-32D5-4CB5-9288-7F0E7955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FEF-E6A9-49F5-BEA9-BDFB2DAF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38593-16C8-41B0-B6DA-4D87BAC7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F4196-B54B-46E9-A64A-FE55B571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83E2A-3A9D-43D6-88F2-6F49FA8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D2D10-712D-44DA-9DA4-8965D138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9A379-2501-488E-91D0-6588D187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20A59-5053-44B9-88FA-A54DE6C2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0D766-D975-4834-85B8-386FE7A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AC88E-0ECA-4453-B09A-BBB7036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932F2-780A-4BC1-9B52-D4201A8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06730-0AE9-4C90-8906-ACF465D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49C-A4F7-40A4-938C-A64761B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5F90B-7DF3-4C5A-B040-4AE2ADD0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44FF8-DF33-4C7D-8275-07318DA2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8B164-E744-4ABD-8090-2AD30637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02993-C440-4730-B05B-8D1E782F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EA901-B808-4714-BD2C-D800484A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9A86A-A5B9-4E6E-9D16-EEDAE869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A7751-C7A6-4417-8A6E-568E10C6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CA83A-96F0-477A-98C9-B6E959F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1E9D8-56E2-4A68-BF73-CE022261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F3B5F-EC9F-44B6-9894-0C9BB7B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E2F-CA65-4983-AFF4-E21A6E9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7FA94-3D9B-468A-8421-EB47765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6E678-7AA6-4746-94E6-73BC7CD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A38BF-B9A9-4E0B-BE14-B63910FF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8DCCD-2357-42ED-9E68-31C71649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5C845-9499-43D0-B3C2-25C706B1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8D9-3736-4502-B6FA-8EF3D07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7FBF-736D-48A7-9463-79A0B3F161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86A-B787-4976-A3E2-B183C443A8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5FF7-B066-4D86-BB37-D5D41AD521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AEAE-E516-49FB-8401-595B75E246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A793-AF35-4AA3-9865-A2840434E7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C3A9-2563-4924-8B02-B9D1190DE5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2D1C-5C04-4B6E-947B-88E637B34E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entury Schoolbook"/>
              </a:rPr>
              <a:t>ROBOT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Century Schoolbook"/>
              </a:rPr>
              <a:t>7</a:t>
            </a:r>
            <a:r>
              <a:rPr b="1" lang="en-US" sz="1800" spc="-1" strike="noStrike" baseline="30000">
                <a:solidFill>
                  <a:srgbClr val="04617b"/>
                </a:solidFill>
                <a:latin typeface="Century Schoolbook"/>
              </a:rPr>
              <a:t>th</a:t>
            </a:r>
            <a:r>
              <a:rPr b="1" lang="en-US" sz="1800" spc="-1" strike="noStrike">
                <a:solidFill>
                  <a:srgbClr val="04617b"/>
                </a:solidFill>
                <a:latin typeface="Century Schoolbook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6680" y="1433520"/>
            <a:ext cx="6248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523960" y="1612800"/>
            <a:ext cx="33339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2004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570040" y="1600200"/>
            <a:ext cx="32418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700360" y="1655640"/>
            <a:ext cx="2981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232000" y="1600200"/>
            <a:ext cx="39178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6705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5" name="ShockwaveFlash1"/>
          <p:cNvGraphicFramePr/>
          <p:nvPr/>
        </p:nvGraphicFramePr>
        <p:xfrm>
          <a:off x="380880" y="380880"/>
          <a:ext cx="77709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7770960" cy="617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057400" y="190332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286000" y="213192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600200" y="144612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62120" y="1601640"/>
            <a:ext cx="68580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3526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362320" y="1440000"/>
            <a:ext cx="365760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295280" y="1681200"/>
            <a:ext cx="5791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54280" y="1600200"/>
            <a:ext cx="48736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34:48Z</dcterms:created>
  <dc:creator>Tina</dc:creator>
  <dc:description/>
  <dc:language>en-US</dc:language>
  <cp:lastModifiedBy>Tina</cp:lastModifiedBy>
  <dcterms:modified xsi:type="dcterms:W3CDTF">2009-09-23T01:58:29Z</dcterms:modified>
  <cp:revision>9</cp:revision>
  <dc:subject/>
  <dc:title>Robots</dc:title>
</cp:coreProperties>
</file>